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9E5-F963-408F-859F-F3154E8A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D32-44D9-490C-9745-E86399A1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E8E-F3F9-4CD2-8984-959FA3C3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0BA-B27A-4853-B9B1-5DB3D656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119-A09A-4F21-86E0-F6C2FB86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002-8D8C-496C-B067-B7403857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5D8-6D8F-452F-A8A1-3814BB93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870-A000-4C54-96FB-6131001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705-02D7-47F1-B5BE-2C33679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3AF-BDE7-42BB-A2E9-AF7C238D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8AB-A1D1-491D-8379-F81761CF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0F7-AD1D-4436-B388-A8CBBDFD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4B03-92AB-4D51-8B90-19A207EB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2F3A-A811-4314-934C-BEE44BA0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0737-77F6-4057-9C27-0FCF3C2D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1EA7-2042-4E5A-A595-F6DD32EE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B758-05AE-4535-AFBF-8A1E0EB8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38C2-EABC-4032-8ABA-5852499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FA08-4083-4FD7-86F7-E476A934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B70A-6192-4276-AEB9-4F36C26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3556-E2AD-452E-AF61-D7ACC2E8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57F4-7865-4D8A-98CC-0AD3738B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7C0-E155-4D50-8D52-4D54F184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DF52-25DC-4270-A394-A6799EC3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CBA4-33B7-4588-990F-DF11D4E0E25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7661-D800-4CFC-A401-3FC8E63338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8CA-0E4E-4545-80F2-8C4B121DBD0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38EB-4A79-4F97-BD32-283526883A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E7AD-CE6C-451D-8A62-B9525996DA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Интегрисане а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демске студије фармациј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90720" y="3124080"/>
            <a:ext cx="68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ФАРМАКОТЕРАПИЈ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ПРЕМ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ИНДИВИДУАЛНИ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ПОТРЕБАМ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ПАЦИЈЕН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676520" y="1828800"/>
            <a:ext cx="5105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Клинича фармација 1  -   Г0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редавање бр.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8CDC-389A-46E8-98E1-90AAEEB310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0BEC-3D21-4A26-9677-C2629B35D8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јав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варијациј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пулациј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ејств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знос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виш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1%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ласифику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"</a:t>
            </a:r>
            <a:r>
              <a:rPr b="0" lang="en-US" sz="2100" spc="-1" strike="noStrike">
                <a:solidFill>
                  <a:srgbClr val="cc0000"/>
                </a:solidFill>
                <a:latin typeface="CharterZK"/>
              </a:rPr>
              <a:t>полиморфиза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"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Функционалн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лиморфизм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л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је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ген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кључен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етаболиза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ог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овед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л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зостанк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ерапијског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ефект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очекиван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линичк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говор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кључујућ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изостанак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испољавања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ефекта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активне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компоненте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измењени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метаболизам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продужени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фармаколошки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ефекат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нежељене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реакције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токсичност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интеракције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лек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лек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измењеним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ефектим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C30-E6AC-4B0E-99E4-68FE04F5C54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BDDB-BBFE-4891-88E4-E0420EB848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1371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 принципу, постоје три генетска механизма која могу да утичу на фармакотерапију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Први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И најбоље проучени до сада су генетски полиморфизми гена који утичу на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омену  метаболизма леков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 нпр. метаболизам трицикличних антидепресива). Повећање или смањење брзине метаболизма лека може да промени његову концентрацију, а тиме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активних, неактивних или токсичних метаболи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Други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генетске варијанте попут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ефицитарности ензим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глукозо-6-фосфат дехидрогеназе могу да проузрокују неочекиван ефекат лека ван подручја познате терапеутске индикације, као што је  нпр. хемолиза у случају примене антималарика, сулфонамида, нитрофурантоина И других лекова код пацијената који умају урођен дефицит овог ензима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Трећи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генетске варијације присутне у циљним местима -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ецепторима код примен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тзв. усмерених (“таргет”) лекова могу да утичу на клинички одговор И учесталост нежељених ефеката (нпр. различити бета адренергични рецептори мењају одговор на бета агонисте код пацијената оболелих од астме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984A-F43D-4987-86C0-E12D5EB76A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0D6F-296F-403F-B96F-8400B27BA5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умевање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енетских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тор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ређују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говор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носу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новиј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азнањ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ласти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ханизм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ловањ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дентификације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иљних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ов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ас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у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одећи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тори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ређују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одел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пецифичним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иљаним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ловањем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једину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пулациј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B7CF-8015-43BF-AA50-E17B612B9C8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14E6-5B62-48AF-9030-7FFD7F03DB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огућност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ређивањ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сетљивос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јединц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четк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ерапи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ристећ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етод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фармакогенетик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огл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напред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стојећ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ерапиј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кра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врем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требн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абер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јбољ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ваког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ацијент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ај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чин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акођ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начајн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мањил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треб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хоспитализацијо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мањил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рошков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стал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следиц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жељен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реакциј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удућнос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ћ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етичк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колик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генетск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естирањ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л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веден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рутинск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акс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шт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пречил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злагањ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штетни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/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ефикасни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ови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њ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5417-9B1E-4090-84FA-A6BE86F6B5E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C72B-539C-44BC-AE84-574B9F7B1F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пречавањем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описивањ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ацијенти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еагу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описан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ерапи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едуковањем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јав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ежељених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еакциј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еков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стиж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спешнија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фикасност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езбедност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циљ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рмакотерапиј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чак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рмакотерапиј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ређе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м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ндивидуални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требам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AF3C-4B69-427C-8C2F-ACCB202916C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8CA3-2296-4836-A061-7224A5AF22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асн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стој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ндивидуалност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дговор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еков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ј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след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в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ацијент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казу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днак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ерапијск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рист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8F51-1D55-4116-B981-2AA4F6EF715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4B2-0F0B-421F-9A69-DA24726F7A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енетск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лиморфиза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м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тицај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рмакотерапиј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главно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вис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арактеристик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итањ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знајућ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род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иотрансформаци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пецифичних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нос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важн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азлик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ктивност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ензим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ож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огнозират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ов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реб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спитуј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варијациј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етаболизм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уте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их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лиморфизам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авовремен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пречил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жељен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еакци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CF16-AD52-4880-AB56-2BD2B5A07F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DE16-E113-47A1-A14B-5C0CBA90CB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0100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Примери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НРЛ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ипа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реакције</a:t>
            </a:r>
            <a:r>
              <a:rPr b="1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генског</a:t>
            </a:r>
            <a:r>
              <a:rPr b="1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порекла</a:t>
            </a:r>
            <a:r>
              <a:rPr b="1" lang="sr-Latn-CS" sz="2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урођене</a:t>
            </a:r>
            <a:r>
              <a:rPr b="1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ензимопатије</a:t>
            </a:r>
            <a:r>
              <a:rPr b="1" lang="sr-Latn-CS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структурне</a:t>
            </a:r>
            <a:r>
              <a:rPr b="1" lang="sr-Latn-C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промене</a:t>
            </a:r>
            <a:r>
              <a:rPr b="1" lang="sr-Latn-C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ензима</a:t>
            </a:r>
            <a:r>
              <a:rPr b="1" lang="sr-Latn-CS" sz="21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атипични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облик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сеудохолинестеразе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овећан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осетљивост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рем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укцинилхолину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дуготрајн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арализ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респираторних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мишић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недостатак</a:t>
            </a:r>
            <a:r>
              <a:rPr b="1" lang="sr-Latn-C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ензим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5000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гликоз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-6-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фосфат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дехидрогеназ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хемолитичн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анемиј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антималарици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улфонамиди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др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.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5000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ацетилтрансфераз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олинеуритис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изониазид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5000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метхемоглобин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редуктаз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метхемоглобинемиј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аналгетици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антималарици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улфонамиди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прекомерна</a:t>
            </a:r>
            <a:r>
              <a:rPr b="1" lang="sr-Latn-C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биосинтеза</a:t>
            </a:r>
            <a:r>
              <a:rPr b="1" lang="sr-Latn-C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ензима</a:t>
            </a: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синтеза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делта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аминолевулинске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киселине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рекомерно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стварање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орфирина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јетри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барбитурати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07AC-BC9F-43D5-9BBD-ACD5861A68E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8AE1-C91B-4257-B106-14D668931B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Приказ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генетск</a:t>
            </a: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их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варијациј</a:t>
            </a: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у клиничким областима, врсте лекова и полиморфних генетских особина карактеристика (метаболизма или ткивне осетљивост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Кардиоваскуларна обољењ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зирање бета блокатора и антиаритмика (ЦYП 2Д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зирање АЦЕ инхибитора (АЦЕ варијант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омбоемболизам пове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н фактором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Леиден, фактором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протромбин) или високим фактором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варијан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већана осетљивост на кумадин (ЦYП 2Ц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лонгиран Q-Т интервал синдрома и дисритмија (варијанте калијумских канала ХЕРГ, КвЛQТ1, КЦНЕ2; касно отварање натријумских  канала специфичним блокаторим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ханичко-базирана терапија високог крвног притиска (многобројни ретки Менделиа поремећај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лаба реакција  на правастатин (Б2Б варијанта холестерол естер трансфера протеи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већано реаговање на симвастатин (апоЕ4 и висок Лп(a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E832-FA32-4C23-B899-528A604FE90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9B39-B02A-46A7-A9C7-F42AB98827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умор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етљивост на велике количине миjелосупресора од 6-меркаптопурина, 6-тиогуанина, азатиопри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 лечењу акутне лимфоцистичне леукемиј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тиопурин метилтрансфераз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ечење ХЕР2/ неу (ЕГФР2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прегулате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ака дојк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херцепти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уротоксичност од флурорацила (дихидропимиридин дехидрогена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укозитис (токсичност) метотрексатом (метилен тетрахидрофолат редуктазе ТТ варијант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Депрес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нтидепресиви (ЦYП 2Д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уролептици (серотонин рецептор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рдивна дискинезија због антипсихотичких агена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 (допамин Д2 и Д3 рецептор варијан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Приказ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генетск</a:t>
            </a: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их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варијациј</a:t>
            </a: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у клиничким областима, врсте лекова и полиморфних генетских особина карактеристика (метаболизма или ткивне осетљивости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9381-2353-4C8A-AB18-15E67B01AD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650E-1A4E-4074-BD10-04214DD4E1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ктор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тич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рмакотерапиј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сновн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нцип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рмакогенетик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ње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ме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циљ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безбеђењ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фикасн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езбедн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рмакотерап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арентерал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нтерал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хра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841E-72FD-4DC2-B53B-256BEFF62B4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5069-45FB-4AF8-A01E-4F8A89F59A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Лечење Алцхајмерове боле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нтихолестерозно лечење такрином (апоЕ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Аст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аговање на β-агонисте (β адренергички-2 рецептор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аговање на нестероидне антиинфламаторне агенте (ЦYП 2Ц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Контрола бол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реаговање на кодеин (ПМс од ЦYП2Д6 неуспео на О-деметилат до морфи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рчеви и друге реакције због велике количине кодеина код 2Д6 “ултрарапидних метаболизатора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Анестез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алигна хипертермија проузрокована леком (рианодин рецептор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Приказ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генетск</a:t>
            </a: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их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варијациј</a:t>
            </a:r>
            <a:r>
              <a:rPr b="1" lang="sr-CS" sz="21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у клиничким областима, врсте лекова и полиморфних генетских особина карактеристика (метаболизма или ткивне осетљивости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98D1-94A6-4B24-921C-54845132F83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CA69-F0F5-4A6D-8A9C-2250E7E383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описивањ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ал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оз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MyriadPro-Bold"/>
              </a:rPr>
              <a:t>азатиопри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тим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м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доста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CharterZK"/>
              </a:rPr>
              <a:t>ензим</a:t>
            </a:r>
            <a:r>
              <a:rPr b="0" lang="pl-PL" sz="26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CharterZK"/>
              </a:rPr>
              <a:t>тиопурин</a:t>
            </a:r>
            <a:r>
              <a:rPr b="0" lang="pl-PL" sz="26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CharterZK"/>
              </a:rPr>
              <a:t>метилтрансфераз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марн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етаболичк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ензи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ај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муносупресив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едуку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изик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оксичност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рансплантацијо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убрег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ог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шт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оксичност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затиопри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велик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некад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тални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сходо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рмакогенетичк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стирањ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ста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е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тандардн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акс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затиопри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398-DCC2-41D6-BD61-11B179EE6F3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D461-8498-494F-ABD9-2FAC15456A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руг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линичк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важан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лиморфиза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јављу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ензи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100" spc="-1" strike="noStrike">
                <a:solidFill>
                  <a:srgbClr val="cc0000"/>
                </a:solidFill>
                <a:latin typeface="CharterZK"/>
              </a:rPr>
              <a:t>тиопурин</a:t>
            </a:r>
            <a:r>
              <a:rPr b="1" lang="pl-PL" sz="21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100" spc="-1" strike="noStrike">
                <a:solidFill>
                  <a:srgbClr val="cc0000"/>
                </a:solidFill>
                <a:latin typeface="MyriadPro-Bold"/>
              </a:rPr>
              <a:t>С</a:t>
            </a:r>
            <a:r>
              <a:rPr b="1" lang="pl-PL" sz="2100" spc="-1" strike="noStrike">
                <a:solidFill>
                  <a:srgbClr val="cc0000"/>
                </a:solidFill>
                <a:latin typeface="MyriadPro-Bold"/>
              </a:rPr>
              <a:t>-</a:t>
            </a:r>
            <a:r>
              <a:rPr b="1" lang="en-US" sz="2100" spc="-1" strike="noStrike">
                <a:solidFill>
                  <a:srgbClr val="cc0000"/>
                </a:solidFill>
                <a:latin typeface="MyriadPro-Bold"/>
              </a:rPr>
              <a:t>метилтрансфераз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pl-PL" sz="2100" spc="-1" strike="noStrike">
                <a:solidFill>
                  <a:srgbClr val="000000"/>
                </a:solidFill>
                <a:latin typeface="MyriadPro-Bold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MyriadPro-Bold"/>
              </a:rPr>
              <a:t>ТПМТ</a:t>
            </a:r>
            <a:r>
              <a:rPr b="1" lang="pl-PL" sz="2100" spc="-1" strike="noStrike">
                <a:solidFill>
                  <a:srgbClr val="000000"/>
                </a:solidFill>
                <a:latin typeface="MyriadPro-Bold"/>
              </a:rPr>
              <a:t>)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говоран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етаболиза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антитуморск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агенас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pl-PL" sz="2100" spc="-1" strike="noStrike">
                <a:solidFill>
                  <a:srgbClr val="000000"/>
                </a:solidFill>
                <a:latin typeface="MyriadPro-Bold"/>
              </a:rPr>
              <a:t>6-</a:t>
            </a:r>
            <a:r>
              <a:rPr b="1" lang="en-US" sz="2100" spc="-1" strike="noStrike">
                <a:solidFill>
                  <a:srgbClr val="000000"/>
                </a:solidFill>
                <a:latin typeface="MyriadPro-Bold"/>
              </a:rPr>
              <a:t>меркаптопури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pl-PL" sz="2100" spc="-1" strike="noStrike">
                <a:solidFill>
                  <a:srgbClr val="000000"/>
                </a:solidFill>
                <a:latin typeface="MyriadPro-Bold"/>
              </a:rPr>
              <a:t>6-</a:t>
            </a:r>
            <a:r>
              <a:rPr b="1" lang="en-US" sz="2100" spc="-1" strike="noStrike">
                <a:solidFill>
                  <a:srgbClr val="000000"/>
                </a:solidFill>
                <a:latin typeface="MyriadPro-Bold"/>
              </a:rPr>
              <a:t>тиогуани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Генетск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лиморфиза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ПМТ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ензи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дружен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ешкоћа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остизањ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ефективн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оз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в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ец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ечјо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акутно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имфобластично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укемијо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ец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следни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ПМТ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ефицито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спољавај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зражен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хематопоиетичн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оксичност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а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зложе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ови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шт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6-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еркаптопурин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бзиро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висок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актив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фор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ензи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хтев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висок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оз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стига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линичк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ристан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ефекат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FE4-C710-4109-B58D-0904C67910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A20-6EAE-4EFF-9165-A48BDA5CFD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едостатак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црвеним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рвним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рнци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ензи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MyriadPro-Bold"/>
              </a:rPr>
              <a:t>глукозо</a:t>
            </a:r>
            <a:r>
              <a:rPr b="1" lang="pl-PL" sz="3000" spc="-1" strike="noStrike">
                <a:solidFill>
                  <a:srgbClr val="cc0000"/>
                </a:solidFill>
                <a:latin typeface="MyriadPro-Bold"/>
              </a:rPr>
              <a:t>-6-</a:t>
            </a:r>
            <a:r>
              <a:rPr b="1" lang="en-US" sz="3000" spc="-1" strike="noStrike">
                <a:solidFill>
                  <a:srgbClr val="cc0000"/>
                </a:solidFill>
                <a:latin typeface="MyriadPro-Bold"/>
              </a:rPr>
              <a:t>фосфат</a:t>
            </a:r>
            <a:r>
              <a:rPr b="1" lang="pl-PL" sz="3000" spc="-1" strike="noStrike">
                <a:solidFill>
                  <a:srgbClr val="cc0000"/>
                </a:solidFill>
                <a:latin typeface="MyriadPro-Bold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MyriadPro-Bold"/>
              </a:rPr>
              <a:t>дехидрогеназе</a:t>
            </a:r>
            <a:r>
              <a:rPr b="1" lang="pl-PL" sz="3000" spc="-1" strike="noStrike">
                <a:solidFill>
                  <a:srgbClr val="cc0000"/>
                </a:solidFill>
                <a:latin typeface="MyriadPro-Bold"/>
              </a:rPr>
              <a:t> (</a:t>
            </a:r>
            <a:r>
              <a:rPr b="1" lang="en-US" sz="3000" spc="-1" strike="noStrike">
                <a:solidFill>
                  <a:srgbClr val="cc0000"/>
                </a:solidFill>
                <a:latin typeface="MyriadPro-Bold"/>
              </a:rPr>
              <a:t>Г</a:t>
            </a:r>
            <a:r>
              <a:rPr b="1" lang="pl-PL" sz="3000" spc="-1" strike="noStrike">
                <a:solidFill>
                  <a:srgbClr val="cc0000"/>
                </a:solidFill>
                <a:latin typeface="MyriadPro-Bold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MyriadPro-Bold"/>
              </a:rPr>
              <a:t>ПД</a:t>
            </a:r>
            <a:r>
              <a:rPr b="1" lang="pl-PL" sz="3000" spc="-1" strike="noStrike">
                <a:solidFill>
                  <a:srgbClr val="cc0000"/>
                </a:solidFill>
                <a:latin typeface="MyriadPro-Bold"/>
              </a:rPr>
              <a:t>)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везу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ецесивн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слеђ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линичке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следице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анифестују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јавом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едикаментозне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хемолизе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имене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6600cc"/>
                </a:solidFill>
                <a:latin typeface="CharterZK"/>
              </a:rPr>
              <a:t>антималарика</a:t>
            </a:r>
            <a:r>
              <a:rPr b="0" lang="it-IT" sz="3000" spc="-1" strike="noStrike">
                <a:solidFill>
                  <a:srgbClr val="6600cc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6600cc"/>
                </a:solidFill>
                <a:latin typeface="CharterZK"/>
              </a:rPr>
              <a:t>сулфонамида</a:t>
            </a:r>
            <a:r>
              <a:rPr b="0" lang="it-IT" sz="3000" spc="-1" strike="noStrike">
                <a:solidFill>
                  <a:srgbClr val="6600cc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6600cc"/>
                </a:solidFill>
                <a:latin typeface="CharterZK"/>
              </a:rPr>
              <a:t>нитрофурантоина</a:t>
            </a:r>
            <a:r>
              <a:rPr b="0" lang="it-IT" sz="3000" spc="-1" strike="noStrike">
                <a:solidFill>
                  <a:srgbClr val="6600cc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6600cc"/>
                </a:solidFill>
                <a:latin typeface="CharterZK"/>
              </a:rPr>
              <a:t>И</a:t>
            </a:r>
            <a:r>
              <a:rPr b="0" lang="it-IT" sz="3000" spc="-1" strike="noStrike">
                <a:solidFill>
                  <a:srgbClr val="6600cc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6600cc"/>
                </a:solidFill>
                <a:latin typeface="CharterZK"/>
              </a:rPr>
              <a:t>других</a:t>
            </a:r>
            <a:r>
              <a:rPr b="0" lang="it-IT" sz="3000" spc="-1" strike="noStrike">
                <a:solidFill>
                  <a:srgbClr val="6600cc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6600cc"/>
                </a:solidFill>
                <a:latin typeface="CharterZK"/>
              </a:rPr>
              <a:t>лекова</a:t>
            </a:r>
            <a:r>
              <a:rPr b="0" lang="it-IT" sz="3000" spc="-1" strike="noStrike">
                <a:solidFill>
                  <a:srgbClr val="ffff00"/>
                </a:solidFill>
                <a:latin typeface="CharterZK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2AC7-52EA-48BF-A9D0-7357946B8F3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FFAB-0898-41EE-A85B-D143A72013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јединц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мај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достатак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Д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казуј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јачан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сетљивост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хемолитичк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немиј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зрокован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псоном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к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ар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утинск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врш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нализ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суств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ог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ензим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описивањ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псон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неумониј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зрокован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neumoc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is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rinii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болелих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ИДС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ваком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лучај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оцен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ист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изик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иј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огућ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радит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ез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дходног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стирањ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F19-0942-4290-BF99-3A7B983EF8A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1C7D-786B-45CD-827E-8C63F9950B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ад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чекивањ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рмакогенетик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стварен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амо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колико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чењ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енској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снов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вело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вакодневн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акс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требно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врш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ош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виш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учних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страживањ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ложеног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еханизм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еловањ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им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стој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ног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ак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нос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етаболизм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вероватн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виш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г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дан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циљн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ецептор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ог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утаци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ил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колик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азличитих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ог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тич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еловањ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5BF1-BA15-4869-9587-CCB35BC4588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7E6E-CEDE-4A71-B199-866CB29D63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ок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азви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естов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ткривањ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оме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отеин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вак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вих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рак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ест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утаци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ам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дном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водић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ажн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егативним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езултати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акођ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сто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апажањ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вај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нцепт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еконвенционалан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широк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ледан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већав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рошков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дравствен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аштит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FFE1-534E-4860-8F94-43B6652B9EB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1B5-14E4-4DD4-AFBB-24280DDCFC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ног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линичар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леда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ерапи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екови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е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ндивидуалним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треба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јединц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епрактичн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ита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вакав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иступ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ож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кад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бит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еализован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длагањ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оношењ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длук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рошков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дређивањ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отип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ругих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естов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дређивањ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урогат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аркер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ск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функци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533-CD6E-4560-AFCD-697181F6B48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4664-BE7E-4414-A36E-8D9290E975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3800" spc="-1" strike="noStrike">
                <a:solidFill>
                  <a:srgbClr val="000000"/>
                </a:solidFill>
                <a:latin typeface="MyriadPro-Bold"/>
              </a:rPr>
              <a:t>азвој</a:t>
            </a:r>
            <a:r>
              <a:rPr b="1" lang="pl-PL" sz="38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MyriadPro-Bold"/>
              </a:rPr>
              <a:t>нових</a:t>
            </a:r>
            <a:r>
              <a:rPr b="1" lang="pl-PL" sz="38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MyriadPro-Bold"/>
              </a:rPr>
              <a:t>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мпресиван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ример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лек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MyriadPro-Bold"/>
              </a:rPr>
              <a:t>Херцептин</a:t>
            </a:r>
            <a:r>
              <a:rPr b="0" lang="fr-FR" sz="2000" spc="-1" strike="noStrike">
                <a:solidFill>
                  <a:srgbClr val="6600cc"/>
                </a:solidFill>
                <a:latin typeface="CharterZ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MyriadPro-Bold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MyriadPro-Bold"/>
              </a:rPr>
              <a:t>трастузумаб</a:t>
            </a:r>
            <a:r>
              <a:rPr b="1" lang="fr-FR" sz="2000" spc="-1" strike="noStrike">
                <a:solidFill>
                  <a:srgbClr val="000000"/>
                </a:solidFill>
                <a:latin typeface="MyriadPro-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оказао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зузетно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ефикасним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раком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дојки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оодмаклој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фази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Он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делује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тако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што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успорав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рас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R</a:t>
            </a:r>
            <a:r>
              <a:rPr b="0" lang="sv-SE" sz="21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ротеин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epidermal growth factor receptor 2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зражав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реко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ербБ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-2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Употреб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овог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ограничен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амо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оних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у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тестирани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ре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терапије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ојих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ронађено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јако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зражено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ојављивање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овог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пецифичног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његовог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рецептор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што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омогућав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редвиди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ефикасност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sv-SE" sz="20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CF08-E736-4AD5-B045-F8EE1A9F9CE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B869-CDB3-4422-B156-C33DCA5E2B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суств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ог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тврђен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25-30%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ам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н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огу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мат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ист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Херцептином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ок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н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х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иј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тврђен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суств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ербБ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-2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огу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мат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ист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стирањ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</a:t>
            </a:r>
            <a:r>
              <a:rPr b="0" lang="sv-SE" sz="26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нтиген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аставн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е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азвој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ог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оизвод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путств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потребу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Херцептин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снован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мен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ијагностичког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ст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знатог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д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мерцијалним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зивом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Хер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2/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у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389A-4320-430E-A218-E7A8F1CB54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E25C-EFFC-4A95-B643-AB3B1545D2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новрсност и непредвидљивост реаговања на медицинске интервенције је позната сваком здравственом раднику, и она је та која уноси забуну и љутњу лекарима и пацијентима током читаве медицинске историј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2B5A-56E4-4729-B910-BC2557CFCD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B74D-F9CE-44D6-AAB7-E141B296AF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дређивањ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авих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аком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ојк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у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Херцептином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о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дстављ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в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мер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м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ндивидуалним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требам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снов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енотип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Херцептином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ахтев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тестирањ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нализирање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енотип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ат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чег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дстављ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значајан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ак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хватању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линичар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ог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одела</a:t>
            </a:r>
            <a:r>
              <a:rPr b="0" lang="sv-SE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99E5-5103-4B28-806E-1EBD295F1F1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F94E-0DE0-4B06-B1C3-32C54DF4E5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руги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мпресивни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имер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азвитка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пецифичну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варијанту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3000" spc="-1" strike="noStrike">
                <a:solidFill>
                  <a:srgbClr val="6600cc"/>
                </a:solidFill>
                <a:latin typeface="MyriadPro-Bold"/>
              </a:rPr>
              <a:t>Гливеk</a:t>
            </a:r>
            <a:r>
              <a:rPr b="1" lang="fr-FR" sz="3000" spc="-1" strike="noStrike">
                <a:solidFill>
                  <a:srgbClr val="6600cc"/>
                </a:solidFill>
                <a:latin typeface="MyriadPro-Bold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MyriadPro-Bold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MyriadPro-Bold"/>
              </a:rPr>
              <a:t>иматиниб</a:t>
            </a:r>
            <a:r>
              <a:rPr b="1" lang="fr-FR" sz="3000" spc="-1" strike="noStrike">
                <a:solidFill>
                  <a:srgbClr val="000000"/>
                </a:solidFill>
                <a:latin typeface="MyriadPro-Bold"/>
              </a:rPr>
              <a:t>)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Овај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ек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каза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вео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обр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езултат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терапиј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еукеми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ј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стал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оследиц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етск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утаци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-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хроничн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ијелоидн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леукеми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ХМЛ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A5E7-2E7F-4571-AE0B-46AE6D3B4E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87C1-B649-4CD6-8082-A4A3C1717D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жалост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ред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сумњив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рис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једин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ацијент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фармакогенетик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и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широк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скоришће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фармацеутској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ндустриј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знат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нас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ног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расположив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ов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ефикасн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виш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ловин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зложен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пулаци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Фармацеутск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мпани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мај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нтерес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развијај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фармакогенетичк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естов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могућил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ред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ацијент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ож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ма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рис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њиховог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лек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ећ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јер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б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им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граничил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трошњ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ржишт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K-Centar_r11_c4"/>
          <p:cNvPicPr/>
          <p:nvPr/>
        </p:nvPicPr>
        <p:blipFill>
          <a:blip r:embed="rId1"/>
          <a:stretch/>
        </p:blipFill>
        <p:spPr>
          <a:xfrm>
            <a:off x="1371600" y="5334120"/>
            <a:ext cx="5867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7A4A-3FD5-48B1-B2E3-F4236F7BF39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12A6-87FE-4934-A322-21EF546C45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рмацеутск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мпаниј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пак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стављају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љ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азвој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циљних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што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у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Херцептин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ливеk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хватић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чињеницу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ћ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ако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ћ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пулација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а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ист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ит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граничена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в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ов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сумњиво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оносит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инансијску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ист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утинска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мена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рмакогенетских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стова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м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ћ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дентификоват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цијент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огу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истит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езбедно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з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чекивану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ерапијску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рист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ош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век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алеко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али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ије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едостижан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циљ</a:t>
            </a:r>
            <a:r>
              <a:rPr b="0" lang="fr-FR" sz="26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A40C-407A-4DED-8D47-D60F13AF960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5471-4491-460B-8986-81D65C91FB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чекиване користи од фармакогенетике и фармакогеномике могле би да буду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напређење рационлане употребе лекова идентификовањем људи који на жељени начин реагују и  избегавање употребе у случајевима код којих постоји ризик од настанка озбиљних нежељених реак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каз лекова који нису показали жељени ефекат  могућност одређивања нових индикација лекова  који се налазе на тржиш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степено елиминисање  прописивања лекова по систему универзалног модела који одговара свима чиме ће се смањити И прописивање лекова по принципу нагађањ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штеда средстава  избегавањем лечења становништва које од прописаног лека  не може да има  корис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F8B0-5000-4430-9584-6658EF27FAC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78E-8516-424E-A578-8DB899EFF8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граничења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инансирање  подстицаја за истраживање које се односи на постојеће терапије може да буде недовољно И приморано да се такмичи са улагањима у нове иновативне терап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требно је да прође време да би јавност прихватила  генетско профилисањ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иступ индивидуалној терапији може да буде сувише ску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зликовањје спољашњих од генетских фактора  може бити тежи од очекиваног и проузроковати неуспех да се фармакогенетским приступом постигне бољи исход лече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мплексност интеракција лекова и других врста медицинских производа може закомпликовати фармакогенетски циљни присту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армакогенетски метод  може да покрене етичка питања треба идентификовати И о њима отворено расправља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AE15-AD67-43B5-ABD2-38CEA697383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795D-8558-4BE7-BA33-C6B5C114A1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напређење фармакотерапије по индивидуалним потребама пацијената ћ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могућити  бољу ефиикасност и безбедност постојеће  терапије ,  које је потребно сагледати у светлу нових научних технологија 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датак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огуће је да неке од постојећих терапија могу да понуде боље побољшане исходе уз релативно мало улагања и трошков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воренији разговор о томе на који начин фармакогенетика може да побољша исход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стојеће терапије је од пресудног значаја уколико ово треба да постане реалност у свакодневној клиничкој пракс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DDD-5772-4364-9E9B-EAFB2588AA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EB72-0A1F-4C21-A8F7-31B6E2F721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когенет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елик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нача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напређењ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котерап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пак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ћ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менит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адиционалн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лог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цеут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езбеђењ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езбедн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фикасн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котерапиј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ацијент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поред</a:t>
            </a:r>
            <a:r>
              <a:rPr b="1" lang="sr-Latn-CS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генетских</a:t>
            </a:r>
            <a:r>
              <a:rPr b="1" lang="sr-Latn-CS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фактора</a:t>
            </a:r>
            <a:r>
              <a:rPr b="1" lang="sr-Latn-CS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утичу</a:t>
            </a:r>
            <a:r>
              <a:rPr b="1" lang="sr-Latn-CS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sr-Latn-CS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многи</a:t>
            </a:r>
            <a:r>
              <a:rPr b="1" lang="sr-Latn-CS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друг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D7AD-5024-45CD-A821-8597F0D8B0E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6528-DD66-4221-90C5-F8B680A63F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адашњи систем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Будућа здравствена заштит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one size fits al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импто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ијагн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ерапија генеричким леков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ент и нежељених ефеката  леко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арке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вентивна медиц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ана интервен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ндивидуални третм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птимално лече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4CC0-CF8A-46E8-8FCA-6455B2C0E08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E05E-7264-4CC3-83F5-8F52EF01F3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ПАРЕНТЕРАЛНА И ЕНТЕРАЛНА ИСХР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нос хранљивих састојака у организам одвија се уобичајено оралним путем, при чему је активност гастроинтестиналног тракта заступљена на свим нивоим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 случају поремећаја функција гастроинтестиналног тракта, које узрокују искључивање активности једног или више нивоа гастроинтестиналног тракта, неопходно је обезбедити калоријски и структурно адекватан унос протеина, масти и угљених хидра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4EBC-3B65-4731-B2B0-19047F01B6E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24F4-1788-4D43-B61B-17C243BB3A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Фактори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тичу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фармакотерапи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збор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з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мењеног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ем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ндивидуалним потребам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ацијент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вис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карактеристика</a:t>
            </a:r>
            <a:r>
              <a:rPr b="0" lang="sr-Latn-CS" sz="2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пацијент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зрас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л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тањ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реосетљивост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рганизм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лек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рисутни медицински проблеми (стањ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ункциј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бубрег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јетр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)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генетск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редиспозициј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карактеристика</a:t>
            </a:r>
            <a:r>
              <a:rPr b="0" lang="sr-Latn-CS" sz="2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ле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армакодинами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7913-77D9-45ED-9B04-6F8473D914D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46C0-9F9A-442D-A09C-540D9CF654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  околностима када је орални пут исхране ограничен у већем или мањем степену или је потпуно искључен, примењују се други путеви уноса хранљивих састојака у организа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MyriadPro-Bold"/>
              </a:rPr>
              <a:t>ентерална исхрана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MyriadPro-Bold"/>
              </a:rPr>
              <a:t>парентерална исхра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6ADC-C2A9-47E3-B3C0-8CC8785863D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0AE0-27A0-4093-901C-EA38C0902E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 algn="ctr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cc"/>
                </a:solidFill>
                <a:latin typeface="MyriadPro-BoldIt"/>
              </a:rPr>
              <a:t>Малнутриција</a:t>
            </a:r>
            <a:r>
              <a:rPr b="0" lang="en-US" sz="2600" spc="-1" strike="noStrike">
                <a:solidFill>
                  <a:srgbClr val="6600cc"/>
                </a:solidFill>
                <a:latin typeface="CharterZ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 algn="ctr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(лат. </a:t>
            </a:r>
            <a:r>
              <a:rPr b="0" i="1" lang="en-US" sz="2600" spc="-1" strike="noStrike">
                <a:solidFill>
                  <a:srgbClr val="000000"/>
                </a:solidFill>
                <a:latin typeface="CharterZK"/>
              </a:rPr>
              <a:t>малнутритио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 = рђава исхрана) </a:t>
            </a:r>
            <a:r>
              <a:rPr b="1" i="1" lang="en-US" sz="2600" spc="-1" strike="noStrike">
                <a:solidFill>
                  <a:srgbClr val="000000"/>
                </a:solidFill>
                <a:latin typeface="MyriadPro-BoldIt"/>
              </a:rPr>
              <a:t>или потхрањенос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 algn="ctr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 algn="just">
              <a:spcBef>
                <a:spcPts val="6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 algn="just">
              <a:spcBef>
                <a:spcPts val="6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тање организма у којем је унос енергије и хранљивих састојака мањи од њиховог утрошка, што може довести до  промена и поремећаја нормалног функционисања организм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47A2-6BF2-4BB9-A31B-63A72091C0C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44B-DF8D-4CB9-8900-D5C9162B0F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yriadPro-Bold"/>
              </a:rPr>
              <a:t>Ентерална исхран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Ентерална исхрана представља начин уношења хранљивих састојака у организам пацијената код којих су функције гастроинтестиналног тракта у већој или мањој мери ослабљене, или код којих су одређени нивои гастроинтестиналног тракта ван функције или са смањеном функциј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на се може применити путем сонди, које се могу пласирати на различите  нивое гастроинтестиналног тракта, зависно од стања тих ниво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E7E0-CEE9-4954-822E-317997B2E2A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9133-C245-4540-A9CF-CDFAF2010C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yriadPro-Bold"/>
              </a:rPr>
              <a:t>Путеви апликације ентералне исхране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ста (употреба ограничена због неприхватљивог укуса и слабог апетит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зогастричне, назодуоденалне и назојејуналне сонде (употреба ограничена због дуготрајне непријатности и оштећења ткива сонд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астростом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јуностом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ам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луча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уготрајн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имен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10F-B1A9-440D-8937-1AF261891AD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AF7-8D7E-48DA-81DD-9BCE6FEF7E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yriadPro-Bold"/>
              </a:rPr>
              <a:t>Индикације</a:t>
            </a:r>
            <a:r>
              <a:rPr b="1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MyriadPro-Bold"/>
              </a:rPr>
              <a:t>за</a:t>
            </a:r>
            <a:r>
              <a:rPr b="1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MyriadPro-Bold"/>
              </a:rPr>
              <a:t>ентералну</a:t>
            </a:r>
            <a:r>
              <a:rPr b="1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MyriadPro-Bold"/>
              </a:rPr>
              <a:t>примену</a:t>
            </a:r>
            <a:r>
              <a:rPr b="1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MyriadPro-Bold"/>
              </a:rPr>
              <a:t>су</a:t>
            </a:r>
            <a:r>
              <a:rPr b="1" lang="pl-PL" sz="3000" spc="-1" strike="noStrike">
                <a:solidFill>
                  <a:srgbClr val="000000"/>
                </a:solidFill>
                <a:latin typeface="MyriadPro-Bold"/>
              </a:rPr>
              <a:t>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оремећај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орњег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ел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игестивног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истем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једњак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желудац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поремећај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доњег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дел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дигестивног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истем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танко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дебело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црево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пострауматск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тањ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тањ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мање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апсорпциј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различитог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узро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болесниц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нтензивној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нез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опекоти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коматозн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тањ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неоплазм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тањ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шок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нфаркт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траум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костију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глав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врат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B3F6-624D-4007-8488-EED4D2DD2E0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3423-7749-498C-9B50-C5B77FB8B1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Ентералном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исхраном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организам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се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уносе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6628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беланчевин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олимер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арцијално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олимеризован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беланчевин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ептид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лако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варљив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хран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једноставн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дијет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пецифичн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дијет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зависнос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врст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болес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болелих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рган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истем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рг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рилагођен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дијет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болесник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пецифичним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недостацим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корекцију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укупног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унос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хранљивих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материј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C31E-EA8A-412A-A6FE-03B0BB0BEEC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7631-5BA1-4F5B-9B9D-87C3446112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Компликације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ентералне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исхране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могу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бити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веза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сонду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неадекватно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пласиран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a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запушен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недов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љно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фиксиран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0" algn="just"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веза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врсту</a:t>
            </a:r>
            <a:r>
              <a:rPr b="1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хра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кој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унос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муч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повраћ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њ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пролив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грчев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надутост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тешкоћ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дисањ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0" algn="just"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веза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rterZK"/>
              </a:rPr>
              <a:t>метаболизам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овако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унет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e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хра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хипергликемиј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хиперкалијемиј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хипокалијемиј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хипоф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фатемиј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хипомагнезијемиј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хипоцинкемиј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85D2-6A87-45C1-8EF6-340DD9DC877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928D-89C0-4C24-A82F-D714880A7B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yriadPro-Bold"/>
              </a:rPr>
              <a:t>Парентерална</a:t>
            </a:r>
            <a:r>
              <a:rPr b="1" lang="pl-PL" sz="38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MyriadPro-Bold"/>
              </a:rPr>
              <a:t>исхран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едстављ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етод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имен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мплетн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алансиран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схран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уте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нтравенск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нфузиј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циљ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обезбеђењ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анаболичког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статус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организм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одржавањ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добијањ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телес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тежи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одржавањ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азотног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баланс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пр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чему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примен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орал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ентералн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нутриције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недовољн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онемогућена</a:t>
            </a:r>
            <a:r>
              <a:rPr b="0" lang="pl-PL" sz="2200" spc="-1" strike="noStrike">
                <a:solidFill>
                  <a:srgbClr val="000000"/>
                </a:solidFill>
                <a:latin typeface="CharterZK"/>
              </a:rPr>
              <a:t>.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6B40-B331-4F4E-B0C1-53F18791981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2D42-E73F-46F6-A0B9-DABBA5C843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 algn="just">
              <a:lnSpc>
                <a:spcPct val="10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Интравенска</a:t>
            </a:r>
            <a:r>
              <a:rPr b="1" lang="pl-PL" sz="24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исхран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мож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бити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601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допун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ралној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схран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схран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реко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цевчиц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– </a:t>
            </a:r>
            <a:r>
              <a:rPr b="1" lang="en-US" sz="2400" spc="-1" strike="noStrike">
                <a:solidFill>
                  <a:srgbClr val="cc0000"/>
                </a:solidFill>
                <a:latin typeface="MyriadPro-Bold"/>
              </a:rPr>
              <a:t>суплементарна</a:t>
            </a:r>
            <a:r>
              <a:rPr b="1" lang="pl-PL" sz="2400" spc="-1" strike="noStrike">
                <a:solidFill>
                  <a:srgbClr val="cc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MyriadPro-Bold"/>
              </a:rPr>
              <a:t>парентерална</a:t>
            </a:r>
            <a:r>
              <a:rPr b="1" lang="pl-PL" sz="2400" spc="-1" strike="noStrike">
                <a:solidFill>
                  <a:srgbClr val="cc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MyriadPro-Bold"/>
              </a:rPr>
              <a:t>исхран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601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мож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би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једин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начин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схран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– </a:t>
            </a:r>
            <a:r>
              <a:rPr b="1" lang="en-US" sz="2400" spc="-1" strike="noStrike">
                <a:solidFill>
                  <a:srgbClr val="cc0000"/>
                </a:solidFill>
                <a:latin typeface="MyriadPro-Bold"/>
              </a:rPr>
              <a:t>тотална</a:t>
            </a:r>
            <a:r>
              <a:rPr b="1" lang="pl-PL" sz="2400" spc="-1" strike="noStrike">
                <a:solidFill>
                  <a:srgbClr val="cc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MyriadPro-Bold"/>
              </a:rPr>
              <a:t>парентерална</a:t>
            </a:r>
            <a:r>
              <a:rPr b="1" lang="pl-PL" sz="2400" spc="-1" strike="noStrike">
                <a:solidFill>
                  <a:srgbClr val="cc0000"/>
                </a:solidFill>
                <a:latin typeface="MyriadPro-Bold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MyriadPro-Bold"/>
              </a:rPr>
              <a:t>исхрана</a:t>
            </a:r>
            <a:r>
              <a:rPr b="1" lang="pl-PL" sz="2400" spc="-1" strike="noStrike">
                <a:solidFill>
                  <a:srgbClr val="cc0000"/>
                </a:solidFill>
                <a:latin typeface="MyriadPro-Bold"/>
              </a:rPr>
              <a:t> (</a:t>
            </a:r>
            <a:r>
              <a:rPr b="1" lang="en-US" sz="2400" spc="-1" strike="noStrike">
                <a:solidFill>
                  <a:srgbClr val="cc0000"/>
                </a:solidFill>
                <a:latin typeface="MyriadPro-Bold"/>
              </a:rPr>
              <a:t>ТПИ</a:t>
            </a:r>
            <a:r>
              <a:rPr b="1" lang="pl-PL" sz="2400" spc="-1" strike="noStrike">
                <a:solidFill>
                  <a:srgbClr val="cc0000"/>
                </a:solidFill>
                <a:latin typeface="MyriadPro-Bold"/>
              </a:rPr>
              <a:t>).</a:t>
            </a:r>
            <a:r>
              <a:rPr b="0" lang="pl-PL" sz="2400" spc="-1" strike="noStrike">
                <a:solidFill>
                  <a:srgbClr val="cc0000"/>
                </a:solidFill>
                <a:latin typeface="CharterZ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algn="just">
              <a:lnSpc>
                <a:spcPct val="10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н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мож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зависнос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тањ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гастроинтестиналног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тракт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ацијент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зависнос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дијагноз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римењива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дређено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краћ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дуж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врем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чак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до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крај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живот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ацијент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ацијен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терминалном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тадијуму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карцином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F8B9-C9D4-41BC-96EE-F43F5FC19F4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3F02-BE71-4406-B1EC-5179D79DF8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дикациј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ену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в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ухватају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оперативн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оперативн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докнад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ранљиви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стојак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ћ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ерациј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аум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екотин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рциноматозн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уготрајн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докнад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ранљиви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стојак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д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храњени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цијенат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бијањ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цијент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је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шк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уготрајн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ремећај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астроинтестинално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а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емиотерапиј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апиј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рачењ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ж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епен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суфицијенциј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брег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јетр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EC7E-09F6-40B6-8C27-D8853BC2F77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E74E-0328-49EA-B0AC-EA9D9959D8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сновни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инципи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фармакогенети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Фармакогенетик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проучав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значај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утицај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посебних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појединих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ген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или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неколико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специфичних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интерактивних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ген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н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одговор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н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лек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било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д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се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ради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о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корисним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или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нежељеним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ефектима</a:t>
            </a:r>
            <a:r>
              <a:rPr b="0" lang="it-IT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лека</a:t>
            </a:r>
            <a:r>
              <a:rPr b="0" lang="it-IT" sz="30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3462-CA9A-425F-B6D1-E2381B9C714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3B9C-181A-4022-8087-B72B851BC0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талн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рентералн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хран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хтев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ену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твор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држ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минокиселин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укозу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аст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лектролит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нерал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итамин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фузиј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ранљиво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твор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исност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реб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цијент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њ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ест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ступност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нско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тетер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ж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дминистрират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оз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ку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иферни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на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оз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ентралн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нск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тетер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бацује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з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ву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руршку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острожнос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B9D9-1F93-4467-80DC-7E1DBE8C729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9AFD-0D5E-4F36-8111-29E4DABE0F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р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очетк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нфузиј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треб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уради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дговарајућ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биохемијск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тестов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оправи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озбиљн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недостатке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премом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дговарајућег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носа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требних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астоја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Током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лечењ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мор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прати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статус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схрањеност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terZK"/>
              </a:rPr>
              <a:t>електролита</a:t>
            </a:r>
            <a:r>
              <a:rPr b="0" lang="pl-PL" sz="24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FFE4-92D4-4315-A2DC-453FE1EA59B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5D09-BE4A-4777-9CB3-12B17EE1E3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уготрајн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имен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П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мпликаци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ог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ста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бог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дуготрајно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ласираног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атетера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вени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нпр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упала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околног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ткива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флебитис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тромбоза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локалн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истемск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нфекциј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дуготрајн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примен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ов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врст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схран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нпр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стварањ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муља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жучној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еси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амен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жучној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кеси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холестаза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измењен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функциј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rterZK"/>
              </a:rPr>
              <a:t>јетре</a:t>
            </a: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в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мпликаци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ог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збећ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л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блажит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триктни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идржавање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описан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оцедур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имен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П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носн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штовање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в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инструкциј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веден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путств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иложено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з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епарат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0E6E-678E-4DFE-B13F-8AC5C32F766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46A8-033A-4611-8EE4-702297336E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збор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за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мењеног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ма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ндивидуалним потребама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ацијента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ређује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ма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требама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ацијента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лечењу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ногих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олести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, нпр.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цитостатс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ерапиј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зрад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адиоф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мацеутских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е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956D-F568-43A0-AA62-CD679E27D6D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EAEE-155D-47F4-A1BA-5FEC26F573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rterZK"/>
              </a:rPr>
              <a:t>Шира</a:t>
            </a:r>
            <a:r>
              <a:rPr b="1" lang="it-IT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harterZK"/>
              </a:rPr>
              <a:t>дефиниција</a:t>
            </a:r>
            <a:r>
              <a:rPr b="1" lang="it-IT" sz="24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harterZK"/>
              </a:rPr>
              <a:t>фармакогенети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it-IT" sz="38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ук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стражуј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дентитет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карактеристике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полиморфних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кодиране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ензиме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метаболизма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рецепторе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транспортере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код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људи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harterZK"/>
              </a:rPr>
              <a:t>животиња</a:t>
            </a:r>
            <a:r>
              <a:rPr b="0" lang="it-IT" sz="22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оучав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ефекат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њиховог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ејств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дистрибуциј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етаболизам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страних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хемијских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роизвод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браћ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пажњ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азумевањ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генетског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еханизм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улоге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ензим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егулишу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метаболизам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r>
              <a:rPr b="0" lang="it-IT" sz="26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C14D-1CC5-40F9-85A1-4DA2BE2FBAE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2C13-83BF-45C1-8900-F5520DAC31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Pro-Bold"/>
              </a:rPr>
              <a:t>Фармакогеном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 algn="just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наука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која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користи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генетску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варијацију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да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предвиди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одговор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појединаца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на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yriadPro-Bold"/>
              </a:rPr>
              <a:t>лекове</a:t>
            </a:r>
            <a:r>
              <a:rPr b="0" lang="pl-PL" sz="3000" spc="-1" strike="noStrike">
                <a:solidFill>
                  <a:srgbClr val="000000"/>
                </a:solidFill>
                <a:latin typeface="MyriadPro-Bold"/>
              </a:rPr>
              <a:t>.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8052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 algn="just">
              <a:lnSpc>
                <a:spcPct val="10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ука која се бави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оучавањем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тицај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ск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варијаци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ткриће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развој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токсикологиј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 algn="just">
              <a:lnSpc>
                <a:spcPct val="10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потребу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ле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C7F-D9A1-4D09-9DA2-20F6E9572C0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FB9-87D3-4174-B790-BDAC71A1B4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Велик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апредак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олекуларној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генетиц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могући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ређивањ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квенциј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купног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гено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хваљујућ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вођењ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ов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технологиј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ошл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дређивањ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пецифичн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лиморфиза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разлик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НК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квенц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међ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јединци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)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ој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једн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ови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азнањи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генетској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квенци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еквенц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нуклеотид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ојединим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еловим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ДНК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),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представљај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основу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з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разумевање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"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циљних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"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гена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што</a:t>
            </a:r>
            <a:r>
              <a:rPr b="0" lang="pl-PL" sz="21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rterZK"/>
              </a:rPr>
              <a:t>су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кодирани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ензими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,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јонски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канали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,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други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типови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рецептора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који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учествују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у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одговору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на</a:t>
            </a:r>
            <a:r>
              <a:rPr b="1" lang="pl-PL" sz="2200" spc="-1" strike="noStrike">
                <a:solidFill>
                  <a:srgbClr val="cc0000"/>
                </a:solidFill>
                <a:latin typeface="CharterZK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harterZK"/>
              </a:rPr>
              <a:t>лек</a:t>
            </a:r>
            <a:r>
              <a:rPr b="0" lang="pl-PL" sz="2000" spc="-1" strike="noStrike">
                <a:solidFill>
                  <a:srgbClr val="cc0000"/>
                </a:solidFill>
                <a:latin typeface="CharterZ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D031-188B-47DA-84AA-B4487EC9858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4C1A-EE75-40F4-8E41-64147D0369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резултат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мплетног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хуманог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омског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пројект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становље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етаљн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мап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хуманог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ома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кључујућ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нформаци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идентификуј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генетск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варијаци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доводе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везу</a:t>
            </a:r>
            <a:r>
              <a:rPr b="0" lang="pl-PL" sz="30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rterZK"/>
              </a:rPr>
              <a:t>са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осетљивошћу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на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болест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као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rterZK"/>
              </a:rPr>
              <a:t>фармакокинетиком</a:t>
            </a:r>
            <a:r>
              <a:rPr b="0" lang="pl-PL" sz="26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esela</dc:creator>
  <dc:description/>
  <dc:language>en-US</dc:language>
  <cp:lastModifiedBy>User</cp:lastModifiedBy>
  <dcterms:modified xsi:type="dcterms:W3CDTF">2019-09-12T21:56:03Z</dcterms:modified>
  <cp:revision>44</cp:revision>
  <dc:subject/>
  <dc:title>Развој фармацеутске делатности</dc:title>
</cp:coreProperties>
</file>